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7156-AFB2-4C33-97BB-16C2D3976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084B-1C2B-4875-A38C-5F757E6C3B7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C22-9EAD-4C74-9D88-A4DAD3A9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71A-8498-4A7F-AC56-5FE6568D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04B-A0C8-4BEF-8470-F55D2B4F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603-89F4-4591-803C-F8D89AAE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9185-2C86-445D-898A-9AB00F97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5B3A-5E17-4CEC-A5B3-28E48C41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05E3-B88F-4C50-BC5C-83237D9F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0B36-A82B-407D-BE37-22E2E229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3A62-6974-46B5-8DDA-0E0F2BC2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0DBB-FE7B-4F41-9A53-F821E064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62F2-635F-4605-901D-9AE91D98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5541-F682-4B99-8906-2164BDD2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7E09-2B76-4522-A835-FB2232EB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F555-FAE1-45DF-8D00-BD359050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EBDB-32A5-4962-8173-975FA227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9747-6584-4B9C-95E8-4B6C28FF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A76C-62BC-46E5-A5C9-C95F2691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BF9C-9DDE-4586-B5D0-C6AF1E4F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FAB9-4A62-44F2-B7B6-AC95C0DC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7DE1-7027-4062-9F5E-4FA6A32E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13C-64FD-4708-AC04-24256BC9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A8F-3F91-4990-A72D-9942E30C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46B-161A-412F-AE23-41356AC9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78E-8B02-4C17-9605-75A1329A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96C5-D011-4424-91F3-FC02FC02E72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6BEB-B97C-4B36-BA05-EF9CD083B19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h/henryford106096.html" TargetMode="External"/><Relationship Id="rId2" Type="http://schemas.openxmlformats.org/officeDocument/2006/relationships/hyperlink" Target="http://www.brainyquote.com/quotes/quotes/s/stevejobs126246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37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590920" y="4952880"/>
            <a:ext cx="6400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ack Williams, Dire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04920" y="380880"/>
            <a:ext cx="1600200" cy="1600200"/>
          </a:xfrm>
          <a:prstGeom prst="rect">
            <a:avLst/>
          </a:prstGeom>
          <a:solidFill>
            <a:srgbClr val="9f9d4f"/>
          </a:solidFill>
          <a:ln w="0">
            <a:noFill/>
          </a:ln>
          <a:effectLst>
            <a:outerShdw dist="222200" dir="8939309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A 3004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e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njo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ursing Home MDS – June 199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me Health OASIS – August 19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patient Rehab Facility PAI – Januar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ng Bed MDS – Jul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ng Term Care Hospital CDS – October 20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tal Assessments (through 04/25/12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220,0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 ~163,5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4,7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verage Monthly Assessments Ad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1,6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~1,1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38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A 300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as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blic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sessment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ealthcare Acquired Infections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m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ffice of Clinical Standards and 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id and CHIP Ser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s for Disease Control and Prevention – CD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jo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arbor Plac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aryland Science Cent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Aquari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Maritime Muse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ood Eat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www.baltimore.or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 means doing it right when no one is looking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1"/>
              </a:rPr>
              <a:t>Henry F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 a yardstick of quality. Some people aren't used to an environment where excellence is expected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2"/>
              </a:rPr>
              <a:t>Steve Job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8:08Z</dcterms:created>
  <dc:creator>IFMC Employee</dc:creator>
  <dc:description/>
  <dc:language>en-US</dc:language>
  <cp:lastModifiedBy>Jennifer Parrish</cp:lastModifiedBy>
  <dcterms:modified xsi:type="dcterms:W3CDTF">2012-05-11T11:47:03Z</dcterms:modified>
  <cp:revision>65</cp:revision>
  <dc:subject/>
  <dc:title>QIES Year in Review -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5215944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